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6534-208E-4FB9-8CD6-D145A215C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03E1-24A0-4916-B144-C0603737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A90E-262C-45A5-AFF5-504AAE960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F1E5-B395-481B-B3F0-B81ED395B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92B2-435C-448F-8C8B-F91940B8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D068-AB28-4ABE-872D-FF1D5882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7DD9-F05D-4217-8393-A27E4DAA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5BA4-4B6B-46E9-B0EB-B28CDA7B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9ECF-3AB7-4656-AF75-3E585051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25BE-53E8-4B1B-8EE8-9546BE3D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A409-29B8-41DD-A55D-314AF0A9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FEEE-F8A2-4123-BA35-566FB5D5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74CF-913B-460F-B28F-D516C9ED97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5 – India 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rri Vaughn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C:\Program Files\Microsoft Office\MEDIA\CAGCAT10\j0332364.wmf"/>
          <p:cNvPicPr/>
          <p:nvPr/>
        </p:nvPicPr>
        <p:blipFill>
          <a:blip r:embed="rId1"/>
          <a:stretch/>
        </p:blipFill>
        <p:spPr>
          <a:xfrm>
            <a:off x="3124080" y="2209680"/>
            <a:ext cx="498636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zo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uddhist center of prayer and stud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6" descr="http://t0.gstatic.com/images?q=tbn:ANd9GcSmmW_-sTA8kUkhq2rmLSX_6IIzkXVkz38jDdJQlj3PKk_pJL044w"/>
          <p:cNvPicPr/>
          <p:nvPr/>
        </p:nvPicPr>
        <p:blipFill>
          <a:blip r:embed="rId1"/>
          <a:stretch/>
        </p:blipFill>
        <p:spPr>
          <a:xfrm>
            <a:off x="1143000" y="1295280"/>
            <a:ext cx="71629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contin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rge landmass that is part of a continent but distinct from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905200" y="1514520"/>
            <a:ext cx="33336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so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easonal wind that blows for  months at a time, affecting the clim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http://t3.gstatic.com/images?q=tbn:ANd9GcQMZJh9jcPHa6lpboiZ6DLSUbU6G7o-2AyUiJ827AGhEE8l9kNU4g"/>
          <p:cNvPicPr/>
          <p:nvPr/>
        </p:nvPicPr>
        <p:blipFill>
          <a:blip r:embed="rId1"/>
          <a:stretch/>
        </p:blipFill>
        <p:spPr>
          <a:xfrm>
            <a:off x="1447920" y="2057400"/>
            <a:ext cx="6413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9072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lant fiber used for making rope,  burlap bags, etc…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6" descr="http://t2.gstatic.com/images?q=tbn:ANd9GcTLYvETaE7J8EPfSPXdxY3nbiKxvli3dr_wPg_1pHdB2tDhXIHQwQ"/>
          <p:cNvPicPr/>
          <p:nvPr/>
        </p:nvPicPr>
        <p:blipFill>
          <a:blip r:embed="rId1"/>
          <a:stretch/>
        </p:blipFill>
        <p:spPr>
          <a:xfrm>
            <a:off x="1066680" y="1447920"/>
            <a:ext cx="6400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ttage Indust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home  or village based industry where family members make their own go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http://t0.gstatic.com/images?q=tbn:ANd9GcTqAWg5_cDLzv-i1WoLMKYkkDLYsjTvYYc7CC9NKq6POFKONulgng"/>
          <p:cNvPicPr/>
          <p:nvPr/>
        </p:nvPicPr>
        <p:blipFill>
          <a:blip r:embed="rId1"/>
          <a:stretch/>
        </p:blipFill>
        <p:spPr>
          <a:xfrm>
            <a:off x="1905120" y="2286000"/>
            <a:ext cx="541008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t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r social class that is based on your ancesto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6" descr="http://t3.gstatic.com/images?q=tbn:ANd9GcTl1T2FajUIWHhBVtHfckFKgKNP8RDfuWiCi96l8PAKL-2cytJQrw"/>
          <p:cNvPicPr/>
          <p:nvPr/>
        </p:nvPicPr>
        <p:blipFill>
          <a:blip r:embed="rId1"/>
          <a:stretch/>
        </p:blipFill>
        <p:spPr>
          <a:xfrm>
            <a:off x="1447920" y="1828800"/>
            <a:ext cx="62481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incarn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elief in the birth of a person ‘s  soul in a  new body after deat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http://t2.gstatic.com/images?q=tbn:ANd9GcQlRlRHzKcbjEzpMEnwTPq5XBA9D3HBaYCV9k947UjZenQnaT-G"/>
          <p:cNvPicPr/>
          <p:nvPr/>
        </p:nvPicPr>
        <p:blipFill>
          <a:blip r:embed="rId1"/>
          <a:stretch/>
        </p:blipFill>
        <p:spPr>
          <a:xfrm>
            <a:off x="2209680" y="1676520"/>
            <a:ext cx="50292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yclo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intense storm system with heavy rain and high wind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http://t3.gstatic.com/images?q=tbn:ANd9GcTu7SmFp1b9eZ-TCgJ47EITVlsr7xlV4HpaWRptE7BsY4jNHKtM"/>
          <p:cNvPicPr/>
          <p:nvPr/>
        </p:nvPicPr>
        <p:blipFill>
          <a:blip r:embed="rId1"/>
          <a:stretch/>
        </p:blipFill>
        <p:spPr>
          <a:xfrm>
            <a:off x="1295280" y="1600200"/>
            <a:ext cx="6477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sticid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ful chemicals that kill crop-destroying insect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http://t0.gstatic.com/images?q=tbn:ANd9GcS45NfN3ma1K7cu9fho4yXu5tZlnOAdcEvDT0DCRIAgNXtqridUMg"/>
          <p:cNvPicPr/>
          <p:nvPr/>
        </p:nvPicPr>
        <p:blipFill>
          <a:blip r:embed="rId1"/>
          <a:stretch/>
        </p:blipFill>
        <p:spPr>
          <a:xfrm>
            <a:off x="1066680" y="1600200"/>
            <a:ext cx="6553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15:45:15Z</dcterms:created>
  <dc:creator>poweruser</dc:creator>
  <dc:description/>
  <dc:language>en-US</dc:language>
  <cp:lastModifiedBy>BHISD</cp:lastModifiedBy>
  <dcterms:modified xsi:type="dcterms:W3CDTF">2011-12-09T15:49:53Z</dcterms:modified>
  <cp:revision>10</cp:revision>
  <dc:subject/>
  <dc:title>Chapter 5 – India Vocabulary</dc:title>
</cp:coreProperties>
</file>